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800520"/>
            <a:ext cx="853452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416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8005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4160" y="38005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6280" y="14479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1680" y="14479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8005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6280" y="38005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1680" y="38005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447920"/>
            <a:ext cx="853452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648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54160" y="1447920"/>
            <a:ext cx="41648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120600"/>
            <a:ext cx="85345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1111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4160" y="1447920"/>
            <a:ext cx="41648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8005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447920"/>
            <a:ext cx="853452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648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416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54160" y="38005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416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800520"/>
            <a:ext cx="853452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800520"/>
            <a:ext cx="853452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8005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54160" y="38005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6280" y="14479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51680" y="14479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8005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6280" y="38005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51680" y="3800520"/>
            <a:ext cx="274788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648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4160" y="1447920"/>
            <a:ext cx="41648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520" y="120600"/>
            <a:ext cx="8534520" cy="43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1111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4160" y="1447920"/>
            <a:ext cx="41648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8005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6484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416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4160" y="38005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4160" y="1447920"/>
            <a:ext cx="416484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800520"/>
            <a:ext cx="8534520" cy="21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F75AEA50-6B2C-41E1-9803-0D8134158319"/>
          <p:cNvPicPr/>
          <p:nvPr/>
        </p:nvPicPr>
        <p:blipFill>
          <a:blip r:embed="rId2"/>
          <a:stretch/>
        </p:blipFill>
        <p:spPr>
          <a:xfrm>
            <a:off x="0" y="606600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120600"/>
            <a:ext cx="8534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d2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2" name="Text Box 52"/>
          <p:cNvSpPr/>
          <p:nvPr/>
        </p:nvSpPr>
        <p:spPr>
          <a:xfrm>
            <a:off x="3924360" y="6591240"/>
            <a:ext cx="129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8d200"/>
                </a:solidFill>
                <a:latin typeface="Arial Narrow"/>
              </a:rPr>
              <a:t>Page </a:t>
            </a:r>
            <a:fld id="{09E17B24-C5C1-4616-806D-89642229C64C}" type="slidenum">
              <a:rPr b="0" lang="en-US" sz="900" spc="-1" strike="noStrike">
                <a:solidFill>
                  <a:srgbClr val="c8d200"/>
                </a:solidFill>
                <a:latin typeface="Arial Narrow"/>
              </a:rPr>
              <a:t>&lt;number&gt;</a:t>
            </a:fld>
            <a:endParaRPr b="1" lang="en-US" sz="900" spc="-1" strike="noStrike">
              <a:solidFill>
                <a:srgbClr val="1111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447920"/>
            <a:ext cx="853452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601"/>
              </a:spcBef>
              <a:buClr>
                <a:srgbClr val="c8d2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190440">
              <a:spcBef>
                <a:spcPts val="601"/>
              </a:spcBef>
              <a:buClr>
                <a:srgbClr val="c8d2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190440">
              <a:spcBef>
                <a:spcPts val="601"/>
              </a:spcBef>
              <a:buClr>
                <a:srgbClr val="c8d2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23880" indent="-190440">
              <a:spcBef>
                <a:spcPts val="601"/>
              </a:spcBef>
              <a:buClr>
                <a:srgbClr val="c8d2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196920">
              <a:spcBef>
                <a:spcPts val="601"/>
              </a:spcBef>
              <a:buClr>
                <a:srgbClr val="adce7d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196920">
              <a:spcBef>
                <a:spcPts val="601"/>
              </a:spcBef>
              <a:buClr>
                <a:srgbClr val="1111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196920">
              <a:spcBef>
                <a:spcPts val="601"/>
              </a:spcBef>
              <a:buClr>
                <a:srgbClr val="1111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510A9C13-AA03-451C-99C4-E10F040D2BDC"/>
          <p:cNvPicPr/>
          <p:nvPr/>
        </p:nvPicPr>
        <p:blipFill>
          <a:blip r:embed="rId2"/>
          <a:srcRect l="0" t="24994" r="0" b="0"/>
          <a:stretch/>
        </p:blipFill>
        <p:spPr>
          <a:xfrm>
            <a:off x="0" y="2030400"/>
            <a:ext cx="9144000" cy="4840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70520" y="2768760"/>
            <a:ext cx="508608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d2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pic>
        <p:nvPicPr>
          <p:cNvPr id="42" name="Picture 2" descr="510A9C13-AA03-451C-99C4-E10F040D2BDC"/>
          <p:cNvPicPr/>
          <p:nvPr/>
        </p:nvPicPr>
        <p:blipFill>
          <a:blip r:embed="rId3"/>
          <a:srcRect l="0" t="3151" r="0" b="69474"/>
          <a:stretch/>
        </p:blipFill>
        <p:spPr>
          <a:xfrm>
            <a:off x="0" y="190440"/>
            <a:ext cx="9144000" cy="1766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11100"/>
              </a:solidFill>
              <a:latin typeface="Arial"/>
            </a:endParaRPr>
          </a:p>
          <a:p>
            <a:pPr lvl="1" marL="5716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2" marL="952560" algn="ctr">
              <a:spcBef>
                <a:spcPts val="400"/>
              </a:spcBef>
              <a:buClr>
                <a:srgbClr val="c8d2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3" marL="1333440" algn="ctr">
              <a:spcBef>
                <a:spcPts val="400"/>
              </a:spcBef>
              <a:buClr>
                <a:srgbClr val="c8d2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4" marL="1806480" algn="ctr">
              <a:spcBef>
                <a:spcPts val="349"/>
              </a:spcBef>
              <a:buClr>
                <a:srgbClr val="adce7d"/>
              </a:buClr>
              <a:buFont typeface="Arial Narrow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5" marL="1806480">
              <a:spcBef>
                <a:spcPts val="349"/>
              </a:spcBef>
              <a:buClr>
                <a:srgbClr val="1111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  <a:p>
            <a:pPr lvl="6" marL="1806480">
              <a:spcBef>
                <a:spcPts val="349"/>
              </a:spcBef>
              <a:buClr>
                <a:srgbClr val="1111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www.guinee44.fr/IMG/arton16.jpg&amp;imgrefurl=http://www.guinee44.fr/spip.php%3Farticle16&amp;usg=__c9i0hGAPUPdRzsqVthtaYfEJfPQ=&amp;h=591&amp;w=1152&amp;sz=62&amp;hl=fr&amp;start=3&amp;um=1&amp;itbs=1&amp;tbnid=XU3XAc7bOCx9uM:&amp;tbnh=77&amp;tbnw=150&amp;prev=/images%3Fq%3DCONSEIL%2BGENERAL%2BDU%2B44%26um%3D1%26hl%3Dfr%26sa%3DN%26tbs%3Disch:1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fr/imgres?imgurl=http://idata.over-blog.com/2/65/88/69//cg50.jpg&amp;imgrefurl=http://mangetasoupe.over-blog.fr/pages/Conseil_General_de_la_Manche-1774199.html&amp;usg=__at9ZUDDADkUdyuNLii6bM3JQ0Ao=&amp;h=237&amp;w=240&amp;sz=19&amp;hl=fr&amp;start=12&amp;um=1&amp;itbs=1&amp;tbnid=J5iFC-UwTOcKRM:&amp;tbnh=109&amp;tbnw=110&amp;prev=/images%3Fq%3DCONSEIL%2BGENERAL%2B%2B50%26um%3D1%26hl%3Dfr%26sa%3DG%26tbs%3Disch:1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fr/imgres?imgurl=http://idata.over-blog.com/0/13/66/76/illustrations/logo-cg41.jpg&amp;imgrefurl=http://e-s-sologne.over-blog.com/&amp;usg=__BZgONPxLg3KI5dignBUJe76uUlM=&amp;h=310&amp;w=340&amp;sz=25&amp;hl=fr&amp;start=5&amp;um=1&amp;itbs=1&amp;tbnid=xG1Bzy9syIdjSM:&amp;tbnh=109&amp;tbnw=119&amp;prev=/images%3Fq%3DCONSEIL%2BGENERAL%2B41%26um%3D1%26hl%3Dfr%26tbs%3Disch:1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fr/imgres?imgurl=http://static.blogstorage.hi-pi.com/photos/serial-painter.blogspace.fr/images/gd/1258459000/CONSEIL-GENERAL-DE-LA-VIENNE.jpg&amp;imgrefurl=http://serial-painter.blogspace.fr/1924676/CONSEIL-GENERAL-DE-LA-VIENNE/&amp;usg=__Q2MGrJegnqD75XTfj0omm3DkWTQ=&amp;h=344&amp;w=600&amp;sz=118&amp;hl=fr&amp;start=1&amp;um=1&amp;itbs=1&amp;tbnid=2SIRkxxA4eA0EM:&amp;tbnh=77&amp;tbnw=135&amp;prev=/images%3Fq%3DCONSEIL%2BGENERAL%2B86%26um%3D1%26hl%3Dfr%26tbs%3Disch:1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www.unicaen.fr/mrsh/images/logoCGOrne.jpg&amp;imgrefurl=http://www.unicaen.fr/mrsh/prefen/&amp;usg=__3ZTlc4YFoA4bn1N28LhBy2912Jk=&amp;h=442&amp;w=501&amp;sz=33&amp;hl=fr&amp;start=2&amp;itbs=1&amp;tbnid=ZazBudQNMPVB7M:&amp;tbnh=115&amp;tbnw=130&amp;prev=/images%3Fq%3DLOGO%2Bconseil%2Bgeneral%2Bde%2Bl%2527orne%26hl%3Dfr%26sa%3DG%26gbv%3D2%26tbs%3Disch:1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fr/imgres?imgurl=http://www.annuaire-mairie.fr/img.php%3Flg%3D214%26img%3Dimg/logo/communaute-agglomeration-tours-plus.png&amp;imgrefurl=http://www.annuaire-mairie.fr/communaute-agglomeration-tours-plus.html&amp;usg=__kptARlVWxTXeVIkxF1Yuicwh2p4=&amp;h=214&amp;w=214&amp;sz=37&amp;hl=fr&amp;start=3&amp;itbs=1&amp;tbnid=vRmoD2GJa4AeHM:&amp;tbnh=106&amp;tbnw=106&amp;prev=/images%3Fq%3DLOGO%2BAGGLOMERATION%2BTOURS%252B%26hl%3Dfr%26sa%3DG%26gbv%3D2%26tbs%3Disch:1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fr/imgres?imgurl=http://www.annuaire-mairie.fr/img.php%3Flg%3D214%26img%3Dimg/logo/vierzon.png&amp;imgrefurl=http://www.annuaire-mairie.fr/ville-vierzon.html&amp;usg=__kF5fWM14uAJXgZSuY_3fE0AMwK8=&amp;h=214&amp;w=214&amp;sz=29&amp;hl=fr&amp;start=3&amp;itbs=1&amp;tbnid=ruNTqamvphXz8M:&amp;tbnh=106&amp;tbnw=106&amp;prev=/images%3Fq%3DLOGO%2Bville%2Bde%2Bvierzon%26hl%3Dfr%26gbv%3D2%26tbs%3Disch:1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images.google.fr/imgres?imgurl=http://www.ecologie.gouv.fr/IMG/Bourges%2520logo.jpg&amp;imgrefurl=http://www.ecologie.gouv.fr/Bourges.html&amp;usg=__iqsXsOSD6IVd8WL6VE7uV5uZv1E=&amp;h=158&amp;w=219&amp;sz=11&amp;hl=fr&amp;start=2&amp;itbs=1&amp;tbnid=UnZhKLjyAt6IcM:&amp;tbnh=77&amp;tbnw=107&amp;prev=/images%3Fq%3DLOGO%2Bville%2Bde%2BBOURGES%26hl%3Dfr%26gbv%3D2%26tbs%3Disch:1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www.jceangers.com/coc/images/stories/coc2009/angers_loire_metropole.jpg&amp;imgrefurl=http://www.jceangers.com/coc/index.php%3Foption%3Dcom_content%26view%3Darticle%26id%3D15%26Itemid%3D25%26566a2108a43e8913a8358fc79c2977f8%3D41d8fc7e7dbbed92e40a7c5e470afdf4&amp;usg=__KHaFuOoVXv4_ryXn0KxyqDV56IA=&amp;h=148&amp;w=125&amp;sz=45&amp;hl=fr&amp;start=3&amp;um=1&amp;itbs=1&amp;tbnid=PDxuf6MQobpR6M:&amp;tbnh=95&amp;tbnw=80&amp;prev=/images%3Fq%3DANGERS%2BLOIRE%2BMETROPOLE%26um%3D1%26hl%3Dfr%26sa%3DG%26tbs%3Disch:1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fr/imgres?imgurl=http://cpievdo.fr/media/logomairie__091265900_1844_29022008.jpg&amp;imgrefurl=http://cpievdo.fr/cpie-presentation-environnement/musee-d-initiation-a-la-nature/&amp;usg=__DsjNQugN0ZAPdCjaKTuD_ZRVl6M=&amp;h=213&amp;w=546&amp;sz=50&amp;hl=fr&amp;start=18&amp;itbs=1&amp;tbnid=0jbaa2FP-HCQYM:&amp;tbnh=52&amp;tbnw=133&amp;prev=/images%3Fq%3DVILLE%2BDE%2BCAEN%26hl%3Dfr%26sa%3DG%26gbv%3D2%26tbs%3Disch:1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images.google.fr/imgres?imgurl=http://rds.relaisdsciences.org/img_clt/visuel_mnf_1262766044.jpg&amp;imgrefurl=http://www.relaisdsciences.org/index.php%3Fpage%3Dagenda_fiche%26id_manifestation%3D475&amp;usg=__NsqEYG_7Qhl5esY2U6Th-0u4es0=&amp;h=200&amp;w=200&amp;sz=8&amp;hl=fr&amp;start=30&amp;itbs=1&amp;tbnid=Q9LsrKJadO14yM:&amp;tbnh=104&amp;tbnw=104&amp;prev=/images%3Fq%3DCOMMUNAUTE%2BD%2527AGGLOMERATION%2BDE%2BCAEN%2Bla%2Bmer%26start%3D20%26hl%3Dfr%26sa%3DN%26gbv%3D2%26ndsp%3D20%26tbs%3Disch:1" TargetMode="External"/><Relationship Id="rId6" Type="http://schemas.openxmlformats.org/officeDocument/2006/relationships/image" Target="../media/image13.jpeg"/><Relationship Id="rId7" Type="http://schemas.openxmlformats.org/officeDocument/2006/relationships/hyperlink" Target="http://images.google.fr/imgres?imgurl=http://upload.wikimedia.org/wikipedia/fr/thumb/3/39/Communaut&#233;_urbaine_de_Cherbourg_(logo).svg/300px-Communaut&#233;_urbaine_de_Cherbourg_(logo).svg.png&amp;imgrefurl=http://fr.wikipedia.org/wiki/Communaut%25C3%25A9_urbaine_de_Cherbourg&amp;usg=__gk0yFeU6UGqvixq6CDdUhN3sbbA=&amp;h=115&amp;w=300&amp;sz=18&amp;hl=fr&amp;start=21&amp;itbs=1&amp;tbnid=Sq7k-P3sahc4rM:&amp;tbnh=44&amp;tbnw=116&amp;prev=/images%3Fq%3DCOMMUNAUTE%2BURBAINE%2BDE%2BCHERBOURG%26start%3D20%26hl%3Dfr%26sa%3DN%26gbv%3D2%26ndsp%3D20%26tbs%3Disch:1" TargetMode="External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siamconseil.com/images/dossier_du_mois/juin2007/logo_chartres.jpg&amp;imgrefurl=http://www.siamconseil.com/index.php%3Fpage%3Ddepartement-d-eure-et-loir---ville-de-chartres&amp;usg=__sFGzpux0jTAyvDm85qUO8GRs_DE=&amp;h=368&amp;w=200&amp;sz=47&amp;hl=fr&amp;start=1&amp;itbs=1&amp;tbnid=JJmBx7xIqFOwRM:&amp;tbnh=122&amp;tbnw=66&amp;prev=/images%3Fq%3DLOGO%2Bville%2Bde%2Bchartres%26hl%3Dfr%26sa%3DG%26gbv%3D2%26tbs%3Disch:1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google.fr/imgres?imgurl=http://www.annuaire-mairie.fr/img.php%3Flg%3D214%26img%3Dimg/logo/luce-28.png&amp;imgrefurl=http://www.annuaire-mairie.fr/ville-luce-28.html&amp;usg=__OCxqA4ciHnAE6NfxLVM6jDZmv4w=&amp;h=214&amp;w=214&amp;sz=48&amp;hl=fr&amp;start=1&amp;itbs=1&amp;tbnid=EaQPGzcvc8xbXM:&amp;tbnh=106&amp;tbnw=106&amp;prev=/images%3Fq%3DLOGO%2Bville%2Bde%2BLUCE%26hl%3Dfr%26gbv%3D2%26tbs%3Disch:1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google.fr/imgres?imgurl=http://www.webencheres.com/mainvilliers/UploadImage%255Clogo42.jpg&amp;imgrefurl=http://www.webencheres.com/mainvilliers/&amp;usg=__hpvA3WlV6KE-Q6UmI9MXNZxUp4Y=&amp;h=668&amp;w=509&amp;sz=193&amp;hl=fr&amp;start=8&amp;itbs=1&amp;tbnid=GB7_8hxIoYRbIM:&amp;tbnh=138&amp;tbnw=105&amp;prev=/images%3Fq%3DLOGO%2Bville%2Bde%2Bmainvilliers%26hl%3Dfr%26gbv%3D2%26tbs%3Disch:1" TargetMode="External"/><Relationship Id="rId6" Type="http://schemas.openxmlformats.org/officeDocument/2006/relationships/image" Target="../media/image17.jpeg"/><Relationship Id="rId7" Type="http://schemas.openxmlformats.org/officeDocument/2006/relationships/hyperlink" Target="http://images.google.fr/imgres?imgurl=http://www.commerce-equitable-bretagne.org/image/Partenaires%2520Insitutionnels/Blason%2520%26%2520Marquage%2520Ville%2520de%2520Bruz%2520(CMJN,%2520300dpi)%255B1%255D.JPG&amp;imgrefurl=http://www.commerce-equitable-bretagne.org/l--association.php&amp;usg=__in1zqRMwCCFR-NRBTD5AvgqwnmY=&amp;h=591&amp;w=495&amp;sz=176&amp;hl=fr&amp;start=11&amp;itbs=1&amp;tbnid=P2_BS-W-HlkEwM:&amp;tbnh=135&amp;tbnw=113&amp;prev=/images%3Fq%3DLOGO%2BVILLE%2BDE%2BBRUZ%26hl%3Dfr%26gbv%3D2%26tbs%3Disch:1" TargetMode="External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www.radiocampustours.com/documents/logos/Logo-ville-de-Tours.jpg&amp;imgrefurl=http://www.radiocampustours.com/page/2/%3Fs%3Dblois&amp;usg=__1mBc-GxsgR9SRI7pUHH5URwx0BI=&amp;h=376&amp;w=279&amp;sz=33&amp;hl=fr&amp;start=1&amp;itbs=1&amp;tbnid=Vb_L72ZIwpU7jM:&amp;tbnh=122&amp;tbnw=91&amp;prev=/images%3Fq%3DLOGO%2Bville%2Bde%2BTours%26hl%3Dfr%26gbv%3D2%26tbs%3Disch:1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fr/imgres?imgurl=http://emploi.lagazettedescommunes.com/images/print/CF110131.gif&amp;imgrefurl=http://emploi.lagazettedescommunes.com/jobSearch/showOfferExt/offerId/56422&amp;usg=__xhROz4Qut-5iH6UYVWlJ9jSfeE4=&amp;h=190&amp;w=200&amp;sz=10&amp;hl=fr&amp;start=12&amp;itbs=1&amp;tbnid=S3LYQpwcDJgCtM:&amp;tbnh=99&amp;tbnw=104&amp;prev=/images%3Fq%3DVILLE%2BDE%2BCARQUEFOU%26hl%3Dfr%26gbv%3D2%26tbs%3Disch:1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google.fr/imgres?imgurl=http://img.over-blog.com/96x156/0/54/10/41//logo-saint-herblain.jpg&amp;imgrefurl=http://adeleetjulesetcie.over-blog.com/article-13512841.html&amp;usg=__oIXpomsthHONww-KmYV4V7GPNbU=&amp;h=156&amp;w=96&amp;sz=5&amp;hl=fr&amp;start=29&amp;itbs=1&amp;tbnid=eZ2Dhmr55hN38M:&amp;tbnh=97&amp;tbnw=60&amp;prev=/images%3Fq%3DLOGO%2BDE%2BSAINT-HERBLAIN%26start%3D20%26hl%3Dfr%26sa%3DN%26gbv%3D2%26ndsp%3D20%26tbs%3Disch:1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google.fr/imgres?imgurl=http://fubicy.org/nantes/pav/rubrique-actions/FDV/FDV2009/logos/logo_ville_reze.gif&amp;imgrefurl=http://www.fubicy.org/nantes/pav/rubrique-actions/FDV/FDV2009/partenaires09.htm&amp;usg=__C1Qecd9giloorgMpOwTNLZzH5mw=&amp;h=69&amp;w=80&amp;sz=2&amp;hl=fr&amp;start=37&amp;itbs=1&amp;tbnid=VutJqozyF_-FTM:&amp;tbnh=64&amp;tbnw=74&amp;prev=/images%3Fq%3DLOGO%2BDE%2BREZE%26start%3D20%26hl%3Dfr%26sa%3DN%26gbv%3D2%26ndsp%3D20%26tbs%3Disch:1" TargetMode="External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www.challans-badminton.com/uploads/images/logo%2520ville%2520de%2520challans.jpg&amp;imgrefurl=http://www.challans-badminton.com/index.php%3Fpage%3DESMBA&amp;usg=__sUT25W589fALJL44sOG__ja3IJ8=&amp;h=649&amp;w=988&amp;sz=82&amp;hl=fr&amp;start=1&amp;itbs=1&amp;tbnid=25oeOGTcOoqa9M:&amp;tbnh=98&amp;tbnw=149&amp;prev=/images%3Fq%3DLOGO%2BVILLE%2BDE%2BCHALLANS%26hl%3Dfr%26sa%3DG%26gbv%3D2%26tbs%3Disch:1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images.google.fr/imgres?imgurl=http://archersdesducs.free.fr/images/alencon-ville%252061.jpg&amp;imgrefurl=http://archersdesducs.free.fr/histo.htm&amp;usg=__KfTdMrl-ecWUh5XWyPq8bQWqTtA=&amp;h=300&amp;w=500&amp;sz=29&amp;hl=fr&amp;start=17&amp;itbs=1&amp;tbnid=F5M_o54vRAHzHM:&amp;tbnh=78&amp;tbnw=130&amp;prev=/images%3Fq%3DLOGO%2Bville%2Balencon%26hl%3Dfr%26gbv%3D2%26tbs%3Disch:1" TargetMode="External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www.bicyclettesnomades.com/cms/images/uploaded/photos/bicyclettes/media/logo-telegramme.gif&amp;imgrefurl=http://i-voix.over-blog.com/120-categorie-10579705.html&amp;usg=__cklqmYtRE06366d26YSmaMIFwHw=&amp;h=168&amp;w=522&amp;sz=23&amp;hl=fr&amp;start=2&amp;itbs=1&amp;tbnid=wu2P3QqTCLlOGM:&amp;tbnh=42&amp;tbnw=131&amp;prev=/images%3Fq%3DLOGO%2BTELEGRAMME%2BDE%2BBREST%26hl%3Dfr%26gbv%3D2%26tbs%3Disch:1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images.google.fr/imgres?imgurl=http://catholique-coutances.cef.fr/communautes/stthomas/stthomas1.jpg&amp;imgrefurl=http://catholique-coutances.cef.fr/communautes/stthomas/index.php&amp;usg=__icDMjDcEP8BMekhmTdu52YaDyj0=&amp;h=78&amp;w=150&amp;sz=4&amp;hl=fr&amp;start=23&amp;itbs=1&amp;tbnid=alOfQq6RcvwofM:&amp;tbnh=50&amp;tbnw=96&amp;prev=/images%3Fq%3DLOGO%2BCONGREGATION%2BST%2BTHOMAS%2BDE%2BVILLENEUVE%26start%3D20%26hl%3Dfr%26sa%3DN%26gbv%3D2%26ndsp%3D20%26tbs%3Disch:1" TargetMode="External"/><Relationship Id="rId4" Type="http://schemas.openxmlformats.org/officeDocument/2006/relationships/image" Target="../media/image27.jpeg"/><Relationship Id="rId5" Type="http://schemas.openxmlformats.org/officeDocument/2006/relationships/hyperlink" Target="http://images.google.fr/imgres?imgurl=http://idata.over-blog.com/1/91/30/40//logo_tv_rennes.gif&amp;imgrefurl=http://damdamprod.over-blog.com/article-19349807.html&amp;usg=__0bbjaibU_AS3LX4F6tUIU-Q7Eo4=&amp;h=94&amp;w=283&amp;sz=9&amp;hl=fr&amp;start=1&amp;itbs=1&amp;tbnid=2yvhTi4DiPKdlM:&amp;tbnh=38&amp;tbnw=114&amp;prev=/images%3Fq%3DLOGO%2BTV%2BRENNES%26hl%3Dfr%26gbv%3D2%26tbs%3Disch:1" TargetMode="External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8120" y="3123720"/>
            <a:ext cx="586728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8d200"/>
                </a:solidFill>
                <a:latin typeface="Arial"/>
              </a:rPr>
              <a:t>REFERENCES CHIFFREES</a:t>
            </a:r>
            <a:br>
              <a:rPr sz="2800"/>
            </a:br>
            <a:r>
              <a:rPr b="1" lang="fr-FR" sz="1600" spc="-1" strike="noStrike">
                <a:solidFill>
                  <a:srgbClr val="c8d200"/>
                </a:solidFill>
                <a:latin typeface="Arial"/>
              </a:rPr>
              <a:t>Région OUEST</a:t>
            </a:r>
            <a:endParaRPr b="1" lang="en-US" sz="1600" spc="-1" strike="noStrike">
              <a:solidFill>
                <a:srgbClr val="c8d2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8112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8d200"/>
                </a:solidFill>
                <a:latin typeface="Arial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040" y="330120"/>
            <a:ext cx="86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388"/>
                </a:solidFill>
                <a:latin typeface="Arial"/>
              </a:rPr>
              <a:t>Références secteur public</a:t>
            </a:r>
            <a:endParaRPr b="1" lang="en-US" sz="2400" spc="-1" strike="noStrike">
              <a:solidFill>
                <a:srgbClr val="1111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2900520"/>
            <a:ext cx="9144000" cy="1160280"/>
            <a:chOff x="0" y="2900520"/>
            <a:chExt cx="9144000" cy="1160280"/>
          </a:xfrm>
        </p:grpSpPr>
        <p:sp>
          <p:nvSpPr>
            <p:cNvPr id="84" name=""/>
            <p:cNvSpPr/>
            <p:nvPr/>
          </p:nvSpPr>
          <p:spPr>
            <a:xfrm>
              <a:off x="0" y="2900520"/>
              <a:ext cx="91440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290052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387520" y="118116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11100"/>
                </a:solidFill>
                <a:latin typeface="Arial"/>
              </a:rPr>
              <a:t>CONSEIL GENERAL DU LOIR ET CHER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Voix entrante et sortante et préselection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462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Janvier 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13080" y="3594240"/>
            <a:ext cx="558792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CONSEIL GENERAL DE LA MANCHE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@ THD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16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Janvier 2008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17680" y="2425680"/>
            <a:ext cx="7521120" cy="1149480"/>
            <a:chOff x="517680" y="2425680"/>
            <a:chExt cx="7521120" cy="1149480"/>
          </a:xfrm>
        </p:grpSpPr>
        <p:sp>
          <p:nvSpPr>
            <p:cNvPr id="89" name=""/>
            <p:cNvSpPr/>
            <p:nvPr/>
          </p:nvSpPr>
          <p:spPr>
            <a:xfrm>
              <a:off x="2450880" y="2425680"/>
              <a:ext cx="5587920" cy="11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111100"/>
                  </a:solidFill>
                  <a:latin typeface="Arial"/>
                </a:rPr>
                <a:t>CONSEIL GENERAL DES PAYS DE LA LOIRE</a:t>
              </a:r>
              <a:endParaRPr b="1" lang="en-US" sz="14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Services :</a:t>
              </a: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Voix entrante et sortante directe  + @</a:t>
              </a:r>
              <a:endParaRPr b="1" lang="en-US" sz="10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Revenu estimatif :</a:t>
              </a: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11 000 euros (mensuel)</a:t>
              </a:r>
              <a:endParaRPr b="1" lang="en-US" sz="10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Mise en service : </a:t>
              </a: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Avril 2009</a:t>
              </a:r>
              <a:endParaRPr b="1" lang="en-US" sz="10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111100"/>
                  </a:solidFill>
                  <a:latin typeface="Arial"/>
                </a:rPr>
                <a:t>	</a:t>
              </a:r>
              <a:endParaRPr b="1" lang="en-US" sz="10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  <p:pic>
          <p:nvPicPr>
            <p:cNvPr id="90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517680" y="2503440"/>
              <a:ext cx="1428480" cy="73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2240" y="3494160"/>
            <a:ext cx="1047960" cy="1038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459160" y="486108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11100"/>
                </a:solidFill>
                <a:latin typeface="Arial"/>
              </a:rPr>
              <a:t>CONSEIL GENERAL DE LA VIENNE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Voix entrante et sortante et préselection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en cours d’installation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Janvier 2010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9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43120" y="1093680"/>
            <a:ext cx="1133280" cy="1038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2320" y="4967280"/>
            <a:ext cx="1285920" cy="7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8112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8d200"/>
                </a:solidFill>
                <a:latin typeface="Arial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9040" y="330120"/>
            <a:ext cx="86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388"/>
                </a:solidFill>
                <a:latin typeface="Arial"/>
              </a:rPr>
              <a:t>Références secteur public</a:t>
            </a:r>
            <a:endParaRPr b="1" lang="en-US" sz="2400" spc="-1" strike="noStrike">
              <a:solidFill>
                <a:srgbClr val="1111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2900520"/>
            <a:ext cx="9144000" cy="1160280"/>
            <a:chOff x="0" y="2900520"/>
            <a:chExt cx="9144000" cy="1160280"/>
          </a:xfrm>
        </p:grpSpPr>
        <p:sp>
          <p:nvSpPr>
            <p:cNvPr id="98" name=""/>
            <p:cNvSpPr/>
            <p:nvPr/>
          </p:nvSpPr>
          <p:spPr>
            <a:xfrm>
              <a:off x="0" y="2900520"/>
              <a:ext cx="91440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290052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438280" y="1219320"/>
            <a:ext cx="55882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CONSEIL GENERAL DE L’ORNE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oix indirecte  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40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 : 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Janvier  2010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63840" y="363204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VILLE DE VIERZON 18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oix indirecte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21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2387520"/>
            <a:ext cx="55882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AGGLOMERATION TOURS +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@ 10M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10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 2008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0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1065240"/>
            <a:ext cx="1238400" cy="1095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920" y="2276640"/>
            <a:ext cx="1009800" cy="1009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66880" y="3597120"/>
            <a:ext cx="1009440" cy="1009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49240" y="4905360"/>
            <a:ext cx="1158840" cy="833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14600" y="485136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VILLE DE BOURGES 18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PN 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15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2007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8112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8d200"/>
                </a:solidFill>
                <a:latin typeface="Arial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9040" y="330120"/>
            <a:ext cx="86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388"/>
                </a:solidFill>
                <a:latin typeface="Arial"/>
              </a:rPr>
              <a:t>Références secteur public</a:t>
            </a:r>
            <a:endParaRPr b="1" lang="en-US" sz="2400" spc="-1" strike="noStrike">
              <a:solidFill>
                <a:srgbClr val="1111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2900520"/>
            <a:ext cx="9144000" cy="1160280"/>
            <a:chOff x="0" y="2900520"/>
            <a:chExt cx="9144000" cy="1160280"/>
          </a:xfrm>
        </p:grpSpPr>
        <p:sp>
          <p:nvSpPr>
            <p:cNvPr id="111" name=""/>
            <p:cNvSpPr/>
            <p:nvPr/>
          </p:nvSpPr>
          <p:spPr>
            <a:xfrm>
              <a:off x="0" y="2900520"/>
              <a:ext cx="91440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290052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438280" y="1219320"/>
            <a:ext cx="55882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ANGERS LOIRE METROPOLE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oix entrante et sortante directe  + présélection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70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 : 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ars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63840" y="363204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11100"/>
                </a:solidFill>
                <a:latin typeface="Arial"/>
              </a:rPr>
              <a:t>AGGLOMERATION DE CAEN LA MER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Voix entrante et sortante et préselection + @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30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renouvellement juin 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2387520"/>
            <a:ext cx="55882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CAEN LA MER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oix directe et indirecte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16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2006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59160" y="486108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11100"/>
                </a:solidFill>
                <a:latin typeface="Arial"/>
              </a:rPr>
              <a:t>COMMUNAUTE URBAINE DE CHERBOURG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Voix entrante et sortante et préselection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2000 €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Janvier 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096920"/>
            <a:ext cx="965160" cy="1146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3880" y="2546280"/>
            <a:ext cx="1266840" cy="495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7640" y="3441600"/>
            <a:ext cx="1308240" cy="1308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4120" y="5021280"/>
            <a:ext cx="1307880" cy="49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8112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8d200"/>
                </a:solidFill>
                <a:latin typeface="Arial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9040" y="330120"/>
            <a:ext cx="86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388"/>
                </a:solidFill>
                <a:latin typeface="Arial"/>
              </a:rPr>
              <a:t>Références secteur public</a:t>
            </a:r>
            <a:endParaRPr b="1" lang="en-US" sz="2400" spc="-1" strike="noStrike">
              <a:solidFill>
                <a:srgbClr val="1111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2900520"/>
            <a:ext cx="9144000" cy="1160280"/>
            <a:chOff x="0" y="2900520"/>
            <a:chExt cx="9144000" cy="1160280"/>
          </a:xfrm>
        </p:grpSpPr>
        <p:sp>
          <p:nvSpPr>
            <p:cNvPr id="124" name=""/>
            <p:cNvSpPr/>
            <p:nvPr/>
          </p:nvSpPr>
          <p:spPr>
            <a:xfrm>
              <a:off x="0" y="2900520"/>
              <a:ext cx="91440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0052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374920" y="3632040"/>
            <a:ext cx="558792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VILLE DE MAINVILLIERS 28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oix indirecte 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46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janvier 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08400" y="227016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VILLE DE CHARTRES 28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PN + @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4800 €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nouvellement Janvier 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2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33640" y="2276640"/>
            <a:ext cx="628560" cy="1161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370240" y="113976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VILLE DE LUCE 28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@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2007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3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79480" y="1057320"/>
            <a:ext cx="1009800" cy="1009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85680" y="3419640"/>
            <a:ext cx="1000440" cy="1314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463840" y="4902120"/>
            <a:ext cx="558792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VILLE DE BRUZ 35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@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4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 : 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ars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3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84160" y="4818240"/>
            <a:ext cx="1076400" cy="128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8112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8d200"/>
                </a:solidFill>
                <a:latin typeface="Arial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040" y="330120"/>
            <a:ext cx="86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388"/>
                </a:solidFill>
                <a:latin typeface="Arial"/>
              </a:rPr>
              <a:t>Références secteur public</a:t>
            </a:r>
            <a:endParaRPr b="1" lang="en-US" sz="2400" spc="-1" strike="noStrike">
              <a:solidFill>
                <a:srgbClr val="1111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0" y="2900520"/>
            <a:ext cx="9144000" cy="1160280"/>
            <a:chOff x="0" y="2900520"/>
            <a:chExt cx="9144000" cy="1160280"/>
          </a:xfrm>
        </p:grpSpPr>
        <p:sp>
          <p:nvSpPr>
            <p:cNvPr id="137" name=""/>
            <p:cNvSpPr/>
            <p:nvPr/>
          </p:nvSpPr>
          <p:spPr>
            <a:xfrm>
              <a:off x="0" y="2900520"/>
              <a:ext cx="91440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290052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222640" y="1041480"/>
            <a:ext cx="558792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VILLE DE TOURS 37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oix directe 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26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février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1080" y="993600"/>
            <a:ext cx="866880" cy="1162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374920" y="2451240"/>
            <a:ext cx="558792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VILLE DE CARQUEFOU 44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@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4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 : 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ars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4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2880" y="2360520"/>
            <a:ext cx="990360" cy="943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286000" y="3530520"/>
            <a:ext cx="558792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MAIRIE DE SAINT HERBLAIN 44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oix directe et indirecte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16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2006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4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60560" y="3513240"/>
            <a:ext cx="571320" cy="923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374920" y="491508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11100"/>
                </a:solidFill>
                <a:latin typeface="Arial"/>
              </a:rPr>
              <a:t>VILLE DE REZE 44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préselection 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30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renouvellement juin 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4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90560" y="4925880"/>
            <a:ext cx="1060560" cy="91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8112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8d200"/>
                </a:solidFill>
                <a:latin typeface="Arial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040" y="330120"/>
            <a:ext cx="86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388"/>
                </a:solidFill>
                <a:latin typeface="Arial"/>
              </a:rPr>
              <a:t>Références secteur public</a:t>
            </a:r>
            <a:endParaRPr b="1" lang="en-US" sz="2400" spc="-1" strike="noStrike">
              <a:solidFill>
                <a:srgbClr val="1111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0" y="2900520"/>
            <a:ext cx="9144000" cy="1160280"/>
            <a:chOff x="0" y="2900520"/>
            <a:chExt cx="9144000" cy="1160280"/>
          </a:xfrm>
        </p:grpSpPr>
        <p:sp>
          <p:nvSpPr>
            <p:cNvPr id="150" name=""/>
            <p:cNvSpPr/>
            <p:nvPr/>
          </p:nvSpPr>
          <p:spPr>
            <a:xfrm>
              <a:off x="0" y="2900520"/>
              <a:ext cx="91440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290052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370240" y="336240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111100"/>
                </a:solidFill>
                <a:latin typeface="Arial"/>
              </a:rPr>
              <a:t>VILLE DE CHALLANS 85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Voix entrante et sortante et préselection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2000 €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111100"/>
                </a:solidFill>
                <a:latin typeface="Arial"/>
              </a:rPr>
              <a:t>Janvier 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5720" y="3343320"/>
            <a:ext cx="1419120" cy="933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24160" y="2146320"/>
            <a:ext cx="558792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VILLE D’ALENCON 61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oix directe et indirecte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1500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 : 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Juin 2008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5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8280" y="2130480"/>
            <a:ext cx="1238040" cy="7430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197080" y="990720"/>
            <a:ext cx="558792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VILLE DE FLEURY LES AUBRAIS 45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oix directe 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900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 : 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Février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636480" y="923760"/>
            <a:ext cx="1038240" cy="11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81120" y="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8d200"/>
                </a:solidFill>
                <a:latin typeface="Arial"/>
              </a:rPr>
              <a:t>  </a:t>
            </a:r>
            <a:br>
              <a:rPr sz="2800"/>
            </a:br>
            <a:endParaRPr b="1" lang="en-US" sz="2800" spc="-1" strike="noStrike">
              <a:solidFill>
                <a:srgbClr val="c8d2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19040" y="330120"/>
            <a:ext cx="86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3388"/>
                </a:solidFill>
                <a:latin typeface="Arial"/>
              </a:rPr>
              <a:t>Références secteur privé</a:t>
            </a:r>
            <a:endParaRPr b="1" lang="en-US" sz="2400" spc="-1" strike="noStrike">
              <a:solidFill>
                <a:srgbClr val="1111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0" y="2900520"/>
            <a:ext cx="9144000" cy="1160280"/>
            <a:chOff x="0" y="2900520"/>
            <a:chExt cx="9144000" cy="1160280"/>
          </a:xfrm>
        </p:grpSpPr>
        <p:sp>
          <p:nvSpPr>
            <p:cNvPr id="161" name=""/>
            <p:cNvSpPr/>
            <p:nvPr/>
          </p:nvSpPr>
          <p:spPr>
            <a:xfrm>
              <a:off x="0" y="2900520"/>
              <a:ext cx="91440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290052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1111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463840" y="363204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CONGREGATION ST THOMAS DE VILLENEUVE 35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oix directe +présélection 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4000 euros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avril 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2387520"/>
            <a:ext cx="55882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LE TELEGRAMME DE BREST 29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PN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9000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 2009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59160" y="4861080"/>
            <a:ext cx="581652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TV RENNES 35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@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2010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6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800" y="2678040"/>
            <a:ext cx="1698840" cy="5446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74720" y="3952800"/>
            <a:ext cx="914400" cy="476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8600" y="5025960"/>
            <a:ext cx="1695240" cy="565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438280" y="1066680"/>
            <a:ext cx="558828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00"/>
                </a:solidFill>
                <a:latin typeface="Arial"/>
              </a:rPr>
              <a:t>CITYA IMMOBILIER</a:t>
            </a:r>
            <a:endParaRPr b="1" lang="en-US" sz="14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Services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VPN @ Voix Indirecte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Revenu estimatif :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  <a:ea typeface="Times New Roman"/>
              </a:rPr>
              <a:t>18 000 (mensuel)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Mise en service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1111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111100"/>
                </a:solidFill>
                <a:latin typeface="Arial"/>
              </a:rPr>
              <a:t> 2007</a:t>
            </a: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1111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787320" y="118116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08:45:05Z</dcterms:created>
  <dc:creator>Completel</dc:creator>
  <dc:description/>
  <dc:language>en-US</dc:language>
  <cp:lastModifiedBy>COMPLETEL</cp:lastModifiedBy>
  <dcterms:modified xsi:type="dcterms:W3CDTF">2011-07-11T09:30:22Z</dcterms:modified>
  <cp:revision>20</cp:revision>
  <dc:subject/>
  <dc:title>Diapositive 1</dc:title>
</cp:coreProperties>
</file>